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D78-F894-4969-BE9F-DE02BF44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4DC-2043-4C8C-8DAC-2C6A7CCB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9FC-C285-49C4-B1EC-EABAE942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F81-3791-445C-86DF-36F603BD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E17D-EFEA-4468-910B-81A45F3F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4735-8DEF-4301-87FE-C92D2D4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C8B3-427E-461E-A22E-21429283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C2EE-C3BF-41B2-B59A-B4690CAF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DABD-721A-4150-A602-62903BF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D133-9788-4836-B382-1FC91BE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86AD-AD29-4868-BFCC-E68B616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B5E-257F-4F4F-99EB-84BC8404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4AE-63C1-4B6D-A356-CA7F40A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24EA-9CA8-4BB4-95F4-514C30D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B155-BCCF-4991-B3DC-E26AC00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AFC0-1343-45BC-B37A-B43F7DEB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2973-FB2D-4337-BB45-0B191386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0A6-AF3E-4066-AEC3-7D7C5FB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A5A-4834-4388-9FA4-2B8B8225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D20-E02A-4F30-97C0-9D42E68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D43-9DDF-427A-B72A-9EF04973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236-C9BB-451C-BADC-6D9826D7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556-8149-4B3B-9643-4719606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BF1-476D-460E-8AF9-597C92D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7D2A-D698-4DF7-B790-001FFC847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1A47-7E9E-49C0-A1D3-D796368D0D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523880" y="609480"/>
            <a:ext cx="6858000" cy="2819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582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1500120" y="1571760"/>
            <a:ext cx="70009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Сумма углов треуголь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625400" y="4572000"/>
            <a:ext cx="708948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: Вязинько Е.П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КОУ «ООШ с. Полево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6680" y="1752480"/>
            <a:ext cx="757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imes New Roman"/>
              </a:rPr>
              <a:t>Повтори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1219320" y="3429000"/>
            <a:ext cx="3276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2819520" y="3429000"/>
            <a:ext cx="914400" cy="12952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1371600" y="2133360"/>
            <a:ext cx="228600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371484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5072040" y="1785960"/>
            <a:ext cx="3571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imes New Roman"/>
              </a:rPr>
              <a:t>Повтори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219320" y="3429000"/>
            <a:ext cx="3276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2819520" y="3429000"/>
            <a:ext cx="914400" cy="129528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 flipV="1">
            <a:off x="1371600" y="2133360"/>
            <a:ext cx="2286000" cy="6858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3714480" cy="421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5000760" y="1714680"/>
            <a:ext cx="36432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1533600" y="15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2"/>
          <p:cNvSpPr/>
          <p:nvPr/>
        </p:nvSpPr>
        <p:spPr>
          <a:xfrm>
            <a:off x="195120" y="1654200"/>
            <a:ext cx="875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51" descr="BD05102_"/>
          <p:cNvPicPr/>
          <p:nvPr/>
        </p:nvPicPr>
        <p:blipFill>
          <a:blip r:embed="rId1"/>
          <a:stretch/>
        </p:blipFill>
        <p:spPr>
          <a:xfrm>
            <a:off x="7072200" y="1500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1857240" y="357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imes New Roman"/>
              </a:rPr>
              <a:t>Практическая (исследовательская) рабо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1071720" y="808200"/>
            <a:ext cx="7786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п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ить углы треугольников с помощью транспортира. Вычислить сумму углов каждого треугольника. Высказать гипотезу о сумме углов треугольник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п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треугольника вырезать углы, приложить углы друг к другу и приклеить. Какой угол образовали углы треугольника, сложенные вместе? Высказать гипотезу о сумме углов треугольник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дл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п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ь произвольный треугольник АВС. С помощью циркуля и линейки построить на сторонах угла В угл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крест лежащие;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М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М и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крест лежащие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ь на вопрос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о взаимное расположение прямой АС и луча 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ямой АС и луча ВМ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составили лучи 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М? Чему равна градусная мера этого угла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сумма углов треугольника АВС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42960" y="285840"/>
            <a:ext cx="8215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9720" y="42840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86800" y="17524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000080" y="423720"/>
            <a:ext cx="7715160" cy="4862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000080" y="510480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вностороннем треугольнике все углы равны 60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ямоугольном треугольнике сумма острых углов равна 90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ямоугольном равнобедренном треугольнике острые углы равны 45</a:t>
            </a:r>
            <a:r>
              <a:rPr b="1" lang="ru-RU" sz="1800" spc="-1" strike="noStrike">
                <a:solidFill>
                  <a:srgbClr val="000000"/>
                </a:solidFill>
                <a:latin typeface="Cambria Math"/>
                <a:ea typeface="Calibri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2916360"/>
          <a:ext cx="3733920" cy="1788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8586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о:   ΔАВС,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: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: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= 2:3:4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ти: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,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0240">
                <a:tc gridSpan="2">
                  <a:txBody>
                    <a:bodyPr lIns="40320" rIns="40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одна часть углов составляет 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гда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= 2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=3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=4х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Т. к. по теореме о сумме углов треугольника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+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+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=18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 получим уравнение 2х+3х+4х=180, 9х=180, х=20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дна часть углов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= 2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= 3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= 4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:  4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6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80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SymbolPS"/>
                          <a:ea typeface="Times New Roman"/>
                        </a:rPr>
                        <a:t>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285840"/>
            <a:ext cx="7715160" cy="61610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"/>
          <p:cNvGrpSpPr/>
          <p:nvPr/>
        </p:nvGrpSpPr>
        <p:grpSpPr>
          <a:xfrm>
            <a:off x="1071720" y="1643040"/>
            <a:ext cx="3357000" cy="1499760"/>
            <a:chOff x="1071720" y="1643040"/>
            <a:chExt cx="3357000" cy="1499760"/>
          </a:xfrm>
        </p:grpSpPr>
        <p:sp>
          <p:nvSpPr>
            <p:cNvPr id="125" name="Line 9"/>
            <p:cNvSpPr/>
            <p:nvPr/>
          </p:nvSpPr>
          <p:spPr>
            <a:xfrm flipV="1">
              <a:off x="1629360" y="1940760"/>
              <a:ext cx="167688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634040" y="2993400"/>
              <a:ext cx="22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3311280" y="1946160"/>
              <a:ext cx="55764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"/>
            <p:cNvSpPr/>
            <p:nvPr/>
          </p:nvSpPr>
          <p:spPr>
            <a:xfrm>
              <a:off x="1071720" y="2838960"/>
              <a:ext cx="834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>
              <a:off x="2745360" y="1643040"/>
              <a:ext cx="83916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4"/>
            <p:cNvSpPr/>
            <p:nvPr/>
          </p:nvSpPr>
          <p:spPr>
            <a:xfrm>
              <a:off x="3869280" y="2844000"/>
              <a:ext cx="5594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Прямоугольник 14"/>
          <p:cNvSpPr/>
          <p:nvPr/>
        </p:nvSpPr>
        <p:spPr>
          <a:xfrm>
            <a:off x="1285920" y="2643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15"/>
          <p:cNvSpPr/>
          <p:nvPr/>
        </p:nvSpPr>
        <p:spPr>
          <a:xfrm>
            <a:off x="3071880" y="1500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6"/>
          <p:cNvSpPr/>
          <p:nvPr/>
        </p:nvSpPr>
        <p:spPr>
          <a:xfrm>
            <a:off x="3929040" y="2571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428840" y="30729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1000080" y="350028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усть одна часть углов составляет х, тогд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= 2х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=3х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=4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000080" y="3958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к. по теореме о сумме углов треугольник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+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180, то получим уравнение 2х+3х+4х=180, 9х=180, х=2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1000080" y="457416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 одна часть угл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 2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= 40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 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= 60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= 4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= 8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285920" y="537588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40, 60, 8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28800" y="1213920"/>
            <a:ext cx="75722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2880" y="1643040"/>
            <a:ext cx="39052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Изображение"/>
          <p:cNvPicPr/>
          <p:nvPr/>
        </p:nvPicPr>
        <p:blipFill>
          <a:blip r:embed="rId1"/>
          <a:stretch/>
        </p:blipFill>
        <p:spPr>
          <a:xfrm>
            <a:off x="1071720" y="1714680"/>
            <a:ext cx="1606320" cy="1071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071720" y="126072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рисунке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ве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786040" y="1634760"/>
            <a:ext cx="192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59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55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5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66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57160" y="298728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рисунке </a:t>
            </a:r>
            <a:r>
              <a:rPr b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авен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Изображение1"/>
          <p:cNvPicPr/>
          <p:nvPr/>
        </p:nvPicPr>
        <p:blipFill>
          <a:blip r:embed="rId2"/>
          <a:stretch/>
        </p:blipFill>
        <p:spPr>
          <a:xfrm>
            <a:off x="1071720" y="3429000"/>
            <a:ext cx="15714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2786040" y="328932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2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7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53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пределить невозможн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5000760" y="1316160"/>
            <a:ext cx="38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На рисунке величина угла С рав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Изображение 002"/>
          <p:cNvPicPr/>
          <p:nvPr/>
        </p:nvPicPr>
        <p:blipFill>
          <a:blip r:embed="rId3"/>
          <a:stretch/>
        </p:blipFill>
        <p:spPr>
          <a:xfrm>
            <a:off x="5000760" y="178596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2"/>
          <p:cNvSpPr/>
          <p:nvPr/>
        </p:nvSpPr>
        <p:spPr>
          <a:xfrm>
            <a:off x="6500880" y="177984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30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75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ет верног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929120" y="3099600"/>
            <a:ext cx="392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внобедренным является треугольник, изображенный на рисунке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4" descr="Изображение1"/>
          <p:cNvPicPr/>
          <p:nvPr/>
        </p:nvPicPr>
        <p:blipFill>
          <a:blip r:embed="rId4"/>
          <a:stretch/>
        </p:blipFill>
        <p:spPr>
          <a:xfrm>
            <a:off x="5000760" y="3571920"/>
            <a:ext cx="150012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8"/>
          <p:cNvSpPr/>
          <p:nvPr/>
        </p:nvSpPr>
        <p:spPr>
          <a:xfrm>
            <a:off x="1000080" y="4929120"/>
            <a:ext cx="77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ва угла треугольника равны 27° и 41°. Найти третий угол и определить вид треугольн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9"/>
          <p:cNvSpPr/>
          <p:nvPr/>
        </p:nvSpPr>
        <p:spPr>
          <a:xfrm>
            <a:off x="1000080" y="5357880"/>
            <a:ext cx="785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треугольнике АВС: АВ = ВС, угол А равен 40°. Из вершины В к основанию АС проведена высота. Чему равны углы АСВ, АВ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дание на до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28440" y="1752480"/>
            <a:ext cx="77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рвая часть домашнего зад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. 30, № 223 (а. б, в), № 2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торая часть зад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ить на вопрос: «Может ли треугольник иметь: а) два прямых угла; б) два тупых угла; в) один прямой и один тупой угол?». Ответы должны быть обоснованы с помощью теоремы о сумме углов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10:02:29Z</dcterms:created>
  <dc:creator>Гусев Григорий Юрьев</dc:creator>
  <dc:description/>
  <dc:language>en-US</dc:language>
  <cp:lastModifiedBy>Юрий</cp:lastModifiedBy>
  <dcterms:modified xsi:type="dcterms:W3CDTF">2021-02-13T08:49:47Z</dcterms:modified>
  <cp:revision>93</cp:revision>
  <dc:subject/>
  <dc:title>Презентация PowerPoint</dc:title>
</cp:coreProperties>
</file>